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3F0B-DF20-4C94-AEE7-318E5D098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DAD1-3179-4D4A-919C-4AED468C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CCCE-7B61-418C-9DEA-461CE4047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E987-6551-4128-A363-A72C618E1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F196-584C-435A-AB50-6D26F560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51E5-76A5-419B-AFF2-07B4D401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4822-16F2-4E0B-9CD9-D0F14E3D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52A7-2C02-4D3E-962D-F46A13D8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A897-94D5-474C-B0E5-DBCB6D89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3CF2-19CD-404B-ADA9-B28B888F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786C-B7CD-4B86-B02A-CF97C932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D073-7E0B-4559-8E15-16DE0F5B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21C9-54DF-4585-AC82-FE7164576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ncing Education Adequatel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Tw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purpose of edu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and respond the quote on pg. 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Busi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¼ Americans is involved in some aspect of education (p.3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iece of data on pages 32-38 resonates with your gro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 vs. Goa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 demands of NCLD aligned with the purposes of edu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istory of public education in the US has been one of growth and expans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and discuss with a partner one of these changes on pgs. 41 - 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equences of Not Education Peo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problems of not educating people in the U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with the group a statistic about this problem that you found most shoc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 to Grea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im Coll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some companies make the leap . . . And others don’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access instructor-provide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ncing Education Equitab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Th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merican education “equal” or “equitable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“democratic principles” of American edu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urban and surbarban schools funded?  Is it equ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ncing Education Equitab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Th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and share findings on the topic of equity (children, school level, taxpayers) on pages 64-7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he problems and ramifications involved in improving school finance formulas in order to provide greater equity for taxpay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rces of Revenu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F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 the key terms on page 143 – assignment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public schools fun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Project: How are schools funded in New York St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3T14:46:41Z</dcterms:created>
  <dc:creator>North Rockland High School</dc:creator>
  <dc:description/>
  <dc:language>en-US</dc:language>
  <cp:lastModifiedBy>North Rockland High School</cp:lastModifiedBy>
  <dcterms:modified xsi:type="dcterms:W3CDTF">2008-06-23T16:13:20Z</dcterms:modified>
  <cp:revision>2</cp:revision>
  <dc:subject/>
  <dc:title>Financing Education Adequately  Chapter Two</dc:title>
</cp:coreProperties>
</file>